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3CC-CE18-40B6-BFDB-32CB6518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E510-CDE6-4BDC-9E73-AE7F79FC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0981-3022-44FC-888B-9ADF754B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5AE8-D3AC-4CA7-863D-D3077080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7C71-B0DA-4FBC-88AF-D25EDB35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F9D2-D9E2-4B2A-9513-BF517C96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72BD-7BCE-4ED0-9FED-0A08985E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FD31-80BC-47D1-B1E9-134ECC68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9352-5BC6-4280-9199-2899CA97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011E-F752-414B-93FE-CF202365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CAF0-991B-47E3-ACDD-58C8C4EF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CE22-97D5-4833-860B-6FC41492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EFDC-9FCD-447C-9379-97D1A65F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7C03-54F2-43FB-BF30-3ED86F56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CF97-2367-4D13-8D4B-05FBA344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36F0-3ECD-4C02-B701-6204C475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75C7-BE91-4D87-8613-51A5910B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3771-C728-4157-AB18-08F73012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6731-AB6D-4C2E-9F2E-5F68581B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9B5F-5569-4515-9A64-0E189DCB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7C47-194B-4A89-8078-6BF1A6F5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F403-D515-4242-B2E6-86ED74A2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46EE-9164-407F-9B4A-E86CC9E7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7007-7F6F-42AD-BAD9-58E356D2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8F37-2EEC-4AC0-99D1-11ADE07D11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C260-838E-405C-B291-9B8279D470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8153280" cy="2286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Cooper Black"/>
              </a:rPr>
              <a:t>How To Disappear Completely and Never be F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: Sara Nick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Har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1752480" cy="1905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6520" y="624852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images.search.yahoo.com/search/imag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w To Disappear Completely and Never Be F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Light"/>
              </a:rPr>
              <a:t>Written by Sara Nick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00200" y="1905120"/>
            <a:ext cx="2220840" cy="2971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19320" y="5029200"/>
            <a:ext cx="3504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images.search.yahoo.com/search/imag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dff00"/>
                </a:solidFill>
                <a:latin typeface="Arial"/>
              </a:rPr>
              <a:t>Charac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35816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Margaret: curious, worried about lost 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Boyd: helpful, nice friend of Margaret, shows the com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ophie: caring, honest, Margaret’s s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ina Louise: amazing, athletic, Margaret’s fri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rees bullies, mean to Boyd, bad gu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1240" y="5873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Margaret’s house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Lighthouse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Down by northwest pacific ocean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Boyd’s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</a:rPr>
              <a:t>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6933960" cy="2286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Arial"/>
              </a:rPr>
              <a:t>Margaret and Sophie’s dad and uncle are lo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in Event #1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259056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7d89"/>
                </a:solidFill>
                <a:latin typeface="Arial"/>
              </a:rPr>
              <a:t>Sophie and Margaret see uncle rat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7d89"/>
                </a:solidFill>
                <a:latin typeface="Arial"/>
              </a:rPr>
              <a:t>Uncle wrote comics to tell about what happened between him and dad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7d89"/>
                </a:solidFill>
                <a:latin typeface="Arial"/>
              </a:rPr>
              <a:t>The comics are rea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Main Event #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dbdbd"/>
                </a:solidFill>
                <a:latin typeface="Copperplate Gothic Bold"/>
              </a:rPr>
              <a:t>Anonymous person send package to give to her m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dbdbd"/>
                </a:solidFill>
                <a:latin typeface="Copperplate Gothic Bold"/>
              </a:rPr>
              <a:t>Margaret sees dad when he saves her life from drown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Author’s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b3b3b3"/>
                </a:solidFill>
                <a:latin typeface="Arial"/>
              </a:rPr>
              <a:t>Never give u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14400" y="2286000"/>
            <a:ext cx="2438280" cy="3124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0640" y="5586480"/>
            <a:ext cx="391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Amazon.com/How-Disappear-Completely-Never-Found/dp/006441027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100"/>
                </a:solidFill>
                <a:latin typeface="Arial"/>
              </a:rPr>
              <a:t>Author’s Bibliograph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5400"/>
                </a:solidFill>
                <a:latin typeface="Arial"/>
              </a:rPr>
              <a:t>only book she has writt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2249640"/>
            <a:ext cx="4038480" cy="3576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76520" y="6019920"/>
            <a:ext cx="15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ra Nickerson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6:34:17Z</dcterms:created>
  <dc:creator>D83  User</dc:creator>
  <dc:description/>
  <dc:language>en-US</dc:language>
  <cp:lastModifiedBy>D83  User</cp:lastModifiedBy>
  <dcterms:modified xsi:type="dcterms:W3CDTF">2010-12-03T16:38:02Z</dcterms:modified>
  <cp:revision>17</cp:revision>
  <dc:subject/>
  <dc:title>How To Disappear Completely and Never be Found</dc:title>
</cp:coreProperties>
</file>